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7AC-75E7-4439-BB21-1D37C77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D80-4A5F-43E4-B7DF-54F7700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737-FA66-4A01-9EE4-F016C7E2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9DC-75A3-4427-8941-B006EF00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69D7-97DE-466D-A8F8-F66FEFC9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F64-16AF-48E1-8551-CAD3C54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1A95-001E-4BC6-9DBC-B2FAFE76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381-C2D6-4E9A-A33F-590BD10A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BB2-3537-4FE1-8066-92C2361C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8CFC-E751-4127-B67C-D0A5127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1D28-7BAE-4B66-B253-C8BD4AA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9D0-5D1B-4C38-BFF3-EE4FE05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5F5-C2F3-40FE-9D40-4A3F18CD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0347-A7CD-4344-9A7D-476F096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8D7F-7B5D-41C6-9455-29468E29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C32-D2C1-49C3-A29E-C4E4808A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6E4-54F1-4059-8553-4E3FD031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6D0-6E99-4F5D-88DF-6392CF8C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AFC-A4C8-4EC0-9E5F-319C4D7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D49-DF34-49EA-8C17-4FF0BE0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978-A253-48EE-86D3-C66BB5A8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13D-B013-4E45-A363-A9E5B79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A68-17F8-4B03-89EE-73BC604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0A2-2C97-4845-B912-9FA83B4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0E9E-8A84-4307-B325-62CB48A310E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3A0F-A2F3-47E1-9633-44F16A2914A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ct.wisc.edu/Microtextbook/index.php?module=Book&amp;func=displayarticle&amp;art_id=137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RSA Treatment and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lecular Geometry/ Bondin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armaceutical Chemistry TIP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y: James Gorma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r. Philip Deshong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y of Maryland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ncomycin – “Drug of Last Resort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 is a peptide-based antibiotic produc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ycolatopsis oriental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oil bacte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s, it cannot be administered orally but by 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ic compound which requires blood levels to be constantly monitored in the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Hands-on Activ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han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91120" cy="2309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114800" y="2590920"/>
            <a:ext cx="4753080" cy="3809880"/>
            <a:chOff x="4114800" y="2590920"/>
            <a:chExt cx="4753080" cy="3809880"/>
          </a:xfrm>
        </p:grpSpPr>
        <p:grpSp>
          <p:nvGrpSpPr>
            <p:cNvPr id="124" name=""/>
            <p:cNvGrpSpPr/>
            <p:nvPr/>
          </p:nvGrpSpPr>
          <p:grpSpPr>
            <a:xfrm>
              <a:off x="4560840" y="2590920"/>
              <a:ext cx="4307040" cy="3809880"/>
              <a:chOff x="4560840" y="2590920"/>
              <a:chExt cx="4307040" cy="38098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5766840" y="2590920"/>
                <a:ext cx="1722600" cy="1560960"/>
                <a:chOff x="5766840" y="2590920"/>
                <a:chExt cx="1722600" cy="156096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5766840" y="2590920"/>
                  <a:ext cx="1377720" cy="1056240"/>
                  <a:chOff x="5766840" y="2590920"/>
                  <a:chExt cx="1377720" cy="10562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766840" y="2590920"/>
                    <a:ext cx="861120" cy="1056240"/>
                  </a:xfrm>
                  <a:prstGeom prst="rect">
                    <a:avLst/>
                  </a:prstGeom>
                  <a:solidFill>
                    <a:srgbClr val="ff99c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629760" y="2593440"/>
                    <a:ext cx="514800" cy="518400"/>
                  </a:xfrm>
                  <a:prstGeom prst="rect">
                    <a:avLst/>
                  </a:prstGeom>
                  <a:solidFill>
                    <a:srgbClr val="ff99c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455880" y="3286080"/>
                  <a:ext cx="1033560" cy="865800"/>
                  <a:chOff x="6455880" y="3286080"/>
                  <a:chExt cx="1033560" cy="8658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6455880" y="3633480"/>
                    <a:ext cx="1033560" cy="518400"/>
                  </a:xfrm>
                  <a:prstGeom prst="rect">
                    <a:avLst/>
                  </a:prstGeom>
                  <a:solidFill>
                    <a:srgbClr val="99ccf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629760" y="3286080"/>
                    <a:ext cx="859320" cy="347400"/>
                  </a:xfrm>
                  <a:prstGeom prst="rect">
                    <a:avLst/>
                  </a:prstGeom>
                  <a:solidFill>
                    <a:srgbClr val="99ccf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560840" y="2590920"/>
                <a:ext cx="4307040" cy="3809880"/>
                <a:chOff x="4560840" y="2590920"/>
                <a:chExt cx="4307040" cy="3809880"/>
              </a:xfrm>
            </p:grpSpPr>
            <p:pic>
              <p:nvPicPr>
                <p:cNvPr id="1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60840" y="2590920"/>
                  <a:ext cx="4307040" cy="380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>
                  <a:off x="4905360" y="5024520"/>
                  <a:ext cx="861480" cy="86904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22320" y="4329360"/>
                  <a:ext cx="1033560" cy="104292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83800" y="4329360"/>
                  <a:ext cx="1378080" cy="104292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4114800" y="2767320"/>
              <a:ext cx="155052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L-vancosamine</a:t>
              </a:r>
              <a:endParaRPr b="0" lang="en-US" sz="1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58560" y="3459960"/>
              <a:ext cx="127440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D-glucose</a:t>
              </a:r>
              <a:endParaRPr b="0" lang="en-US" sz="10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- Mechanis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ds into a bowl sha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termi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ys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fits into this gro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hydrogen bond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40120" y="1981080"/>
            <a:ext cx="4110120" cy="4407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36840" y="62485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Knox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1990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comycin - Resista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 found in vancomycin producing bacteria as a set of 3 genes (VanA, H, and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replacement of termi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with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2920" y="624852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Lessard and Walsh’s 1999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05360" cy="3178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nX Mechanis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(II)-containing metalloenzyme which removes the terminal D-A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1840" y="624852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Mathews 2006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5791320" cy="369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181480"/>
            <a:ext cx="7924680" cy="9907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ffect of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Lact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fold reduction in affini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mine linking th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Ala’s changes to ket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iminates a hydrogen bo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roduces lone pair repulsion between carbonyl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nds-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duce this molecular change in peptidoglycan and point out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60880" y="63244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Bugg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et al. 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1991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mework Assign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me one other class antibio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this class’ common targe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ketch the molecular structure of an antibiotic from this 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 a brief description of the molecular geometry of this compound and how it interacts with its target molec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s Ci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gg, Timothy; G. Wright, S. Dutka-Malen, M. Arthur, P. Courvailin, and C. Walsh. “Molecular Basis for Vancomycin Resistance in Enterococcus faecium BM4147: Biosynthesis of Depsipeptide Peptidoglycan Precursor by Vancomycin Resistance Proteins VanH and VanA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iochemist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0 (1991):10408-104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itriev, Boris A., Filip V. Toukach, O. Holst, E. T. Rietschel, and S. Ehlers. “Tertiary Structure of Staphylococcus aureus Cell Wall Murein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ournal of Bacteri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2004:7141–714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fferts, Jennifer F. “Schools trying to stay ahead of staph infections.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oston Glo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v. 11, 2007: 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sard, Ivan; Walsh, Christopher. “VanX, a bacterial D-alanyl-D-alanine dipeptidase: Resistance, immunity, or survival function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. Natl. Aced. Sc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96 1999:11028-1103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x, James R. and R. F. Pratt Antimicrobial Agents and Chemotherapy. 34(7) 1990:1342-134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ustian, T, comp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crobiology and Bacteriology: the World of Microb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2006. 31 Dec. 2007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bact.wisc.edu/Microtextbook/index.php?module=Book&amp;func=displayarticle&amp;art_id=1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acock, S. J., de Silva, I. &amp; Lowy, F. D. “What determines nasal carriage of Staphylococcus aureus?”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rends Microbio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9 (2001):605–6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rm-up Activ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o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here are several types of staph infections, the one causing concern among health professions is methicillin-resistant staphylococcus aureus, or MRSA, a bacterium that is resistant to certain types of antibiotics. Several cases of MRSA have been confirmed in Massachusetts this fall, including schools in Winchester and Wrentham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617220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5760" y="601992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Lefferts, Jennifer F. 2007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phylococcus aur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- Importance and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- Co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Wall – Antibiotic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methicillin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comycin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. aureu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Prevalence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% Nasal Colonization of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anently - 2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ient - 6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- 2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5000" y="6248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Peacock et al. 2001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95680" y="563868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EM image of </a:t>
            </a:r>
            <a:r>
              <a:rPr b="0" i="1" lang="en-US" sz="1800" spc="-1" strike="noStrike">
                <a:solidFill>
                  <a:srgbClr val="336666"/>
                </a:solidFill>
                <a:latin typeface="Arial"/>
              </a:rPr>
              <a:t>S. aureus</a:t>
            </a: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 (Paustian 2006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8190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ell Wall – Importance &amp; Struc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ly supports the more flimsy cell membr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-40 nm th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ptidogly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ichoic aci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32400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rface prote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4144" t="5301" r="3548" b="16333"/>
          <a:stretch/>
        </p:blipFill>
        <p:spPr>
          <a:xfrm>
            <a:off x="3962520" y="2666880"/>
            <a:ext cx="4800600" cy="295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9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Todar 2005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 – Construc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-3427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ptidoglycan mon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Addi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taglycine cross-li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ransglycos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side of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ranspeptida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3117" b="18892"/>
          <a:stretch/>
        </p:blipFill>
        <p:spPr>
          <a:xfrm>
            <a:off x="4038480" y="1905120"/>
            <a:ext cx="4819680" cy="426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75440" y="624852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Fluit and Schmitz 2003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ptidoglycan Activ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hand out for hands-o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553080" cy="378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18440" y="63244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Dmitriev 2004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9020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eptidoglycan Cross-lin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ycan chain adopts helical structure allowing the pentapeptide chains to adopt a zigzag conformation facilitating the construction of a scaffold-like cell wal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42120" y="62485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(Dmitriev 2004)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6172200" cy="207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080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 – Antibiotic Targ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s compete with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la portion of peptidoglycan inhibiting cross-lin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 figh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gra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act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647960" cy="3137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370240" y="6324480"/>
            <a:ext cx="65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http://sitemaker.umich.edu/medchem9/penicillin_pharmacology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30:58Z</dcterms:created>
  <dc:creator>James Gorman</dc:creator>
  <dc:description/>
  <cp:keywords/>
  <dc:language>en-US</dc:language>
  <cp:lastModifiedBy>James Gorman</cp:lastModifiedBy>
  <dcterms:modified xsi:type="dcterms:W3CDTF">2008-02-17T20:25:26Z</dcterms:modified>
  <cp:revision>36</cp:revision>
  <dc:subject/>
  <dc:title>MRSA Inf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